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87D-ABD2-4954-A60E-0024699F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A45-EDE8-4680-B974-FF9134A4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CDD-561F-4327-B1C1-5ABA0D4E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E16-6B08-4182-ABAC-A6EB4BE2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A28-7DDE-46A0-8179-69B086DF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F4E-A19E-4C2C-9BC3-B60A5DE0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910-7DE9-4FE9-9198-CFDAE00F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564-21CB-4100-871D-B4C9FD14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7E2B-3B13-43B5-8155-80F0D0E8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F0B-7F86-4AE9-B3F6-2346F9B2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02E-691D-4AED-B07E-E938D976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1BD-E16F-4069-9141-C5909D66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A05C-A356-4304-9730-27B992949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Lord’s P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Father in hea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llowed be your na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kingdom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will be 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 as in hea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today our daily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give us our 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forgive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sin against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ave us from the time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deliver us from ev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kingdom, the pow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glory are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172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20:11Z</dcterms:created>
  <dc:creator>Anon Anon</dc:creator>
  <dc:description/>
  <dc:language>en-US</dc:language>
  <cp:lastModifiedBy>Anon Anon</cp:lastModifiedBy>
  <dcterms:modified xsi:type="dcterms:W3CDTF">2005-08-16T04:24:54Z</dcterms:modified>
  <cp:revision>12</cp:revision>
  <dc:subject/>
  <dc:title>Lord’s Prayer</dc:title>
</cp:coreProperties>
</file>